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B54-49AB-4D1C-9198-FA268A03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ACA-AF0A-4924-BACD-BFF12BE5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982-B4DC-4AAA-9B97-4D02D348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01A-EFB7-4D88-B4B7-F4E455E4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A95F-C8B5-4863-997C-293FF1B3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9C9D-1472-4249-876B-F95BE203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1284-5B63-4F86-8CC4-9AEDF860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32BA-14BC-4BCA-A7A5-A7FD09AA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14F5-2138-4A1B-8435-62420BF9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4582-CF80-42AE-B5D3-4D23BFED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1FBD-726C-4C34-9442-152A0DDC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E97-0AA6-44C8-B93E-76290A93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AA15-FB35-406B-B622-76095DBC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A7B7-E640-4305-9375-5AAD889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2A88-D16F-4BDC-A438-4F829881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1437-20A0-41DD-8422-32EFF2AE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F08E-2A9E-4B8F-BE41-E1F3F3BD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D7A-822D-47EA-BF75-48978AF6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C0E-187B-4BF8-BCE5-EBAFA715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83A-E1D4-4DA9-8B02-1631FA52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63F-CAB3-4319-9FCD-F38F7756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9B8-86C3-44B1-A045-6E40405D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110-E5C3-451B-A352-22C0FB8C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AC2-3E3A-4105-B681-4273BAA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1CB7-B4E6-475C-ADBC-D57F67FF20B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23DF-7B35-4DE5-8B1B-27A5A7346FA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LCOME!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77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by knowing when to talk and when to zip i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 silence during silent work peri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owing respect by listening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ying attention when I am talking and when your classmates are asking questions or sharing. Do not put your head down, you might miss somet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rs. McCall-What you can expect from m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husia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se of Hum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human being, I make mistakes…we all 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elieve in the constructivist school of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believe in equity not e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 expect from you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try your b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articip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how resp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be open-min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cebreaker-1 Truth and 1 L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one should have a notecard on their des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front write one thing about yourself that is true. EX. One thing you did this summer, one thing you are good at, one thing you want, etc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back of the card write one thing that isn’t true. EX. One thing you wish you did, one thing you wish you were good at, etc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ctivity will become our first assignment tomorrow.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rs. McCall’s Rules to a Happier Classroom. </a:t>
            </a: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y job is to teach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our job is to learn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nly rule 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w respect to me, yourself, your classm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s like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when the bell ring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be in your seat, ready to begin working on the board assignment when the bell r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wing respect by being prepared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have proper materials (books, pencils, paper, etc) Any homework assignments are due at the beginning of the period to the top tr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one must have an English notebook where they keep all their writings. This will be collected period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7:00:07Z</dcterms:created>
  <dc:creator>rebecca</dc:creator>
  <dc:description/>
  <dc:language>en-US</dc:language>
  <cp:lastModifiedBy>Angie</cp:lastModifiedBy>
  <dcterms:modified xsi:type="dcterms:W3CDTF">2009-08-19T09:34:55Z</dcterms:modified>
  <cp:revision>4</cp:revision>
  <dc:subject/>
  <dc:title>Mrs. McCall’s Rules to a Happier Classroom. </dc:title>
</cp:coreProperties>
</file>